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EAA6-DD21-44A5-AD0B-D2C11E04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05B4-8FA7-4655-BC8F-9C2875626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CD38-7811-4F8C-BFC8-44EBEEE8C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499A-4747-4536-ACC9-8D8045DD0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BAFE-4965-4B08-9D3E-05CF3E7E1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E825-F97B-4EAF-A0A4-B8D1B41B6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AA70-DDC7-41F0-9D0D-B96C5943E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8984-97D8-44A0-BA86-8CC0B942A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AC31-1428-4802-9FF4-B015E2E3F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21E7-ECC2-4984-BD32-355D19271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80BA-9F74-43FC-AF44-79DDD868F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5D11-084B-4BE6-84EA-DF59B583B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5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0CC156-65DB-4581-8BC5-ABED1CF9BE9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PROCESOS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DE LA NUTRICIÓN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6 Imagen" descr="plantaSOLA_baja.tif"/>
          <p:cNvPicPr/>
          <p:nvPr/>
        </p:nvPicPr>
        <p:blipFill>
          <a:blip r:embed="rId1"/>
          <a:stretch/>
        </p:blipFill>
        <p:spPr>
          <a:xfrm>
            <a:off x="2556000" y="692280"/>
            <a:ext cx="4417920" cy="55893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4"/>
            <p:cNvSpPr/>
            <p:nvPr/>
          </p:nvSpPr>
          <p:spPr>
            <a:xfrm>
              <a:off x="984240" y="90360"/>
              <a:ext cx="81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10 CuadroTexto">
            <a:hlinkClick r:id="rId3" action="ppaction://hlinksldjump"/>
          </p:cNvPr>
          <p:cNvSpPr/>
          <p:nvPr/>
        </p:nvSpPr>
        <p:spPr>
          <a:xfrm>
            <a:off x="324000" y="4869000"/>
            <a:ext cx="2016000" cy="916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1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bsorció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gua y sales mi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11 Grupo"/>
          <p:cNvGrpSpPr/>
          <p:nvPr/>
        </p:nvGrpSpPr>
        <p:grpSpPr>
          <a:xfrm>
            <a:off x="611280" y="981000"/>
            <a:ext cx="2089080" cy="1152720"/>
            <a:chOff x="611280" y="981000"/>
            <a:chExt cx="2089080" cy="1152720"/>
          </a:xfrm>
        </p:grpSpPr>
        <p:sp>
          <p:nvSpPr>
            <p:cNvPr id="57" name="AutoShape 7"/>
            <p:cNvSpPr/>
            <p:nvPr/>
          </p:nvSpPr>
          <p:spPr>
            <a:xfrm>
              <a:off x="611280" y="981000"/>
              <a:ext cx="2089080" cy="115272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17"/>
            <p:cNvSpPr/>
            <p:nvPr/>
          </p:nvSpPr>
          <p:spPr>
            <a:xfrm>
              <a:off x="611280" y="1125000"/>
              <a:ext cx="202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1. OBTENCIÓN DE NUTRIENTES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 PLANT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14 CuadroTexto">
            <a:hlinkClick r:id="rId4" action="ppaction://hlinksldjump"/>
          </p:cNvPr>
          <p:cNvSpPr/>
          <p:nvPr/>
        </p:nvSpPr>
        <p:spPr>
          <a:xfrm>
            <a:off x="324000" y="3500280"/>
            <a:ext cx="2016000" cy="954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1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bsorción de dióxido de carbono (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15 CuadroTexto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1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tosínte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16 Grupo"/>
          <p:cNvGrpSpPr/>
          <p:nvPr/>
        </p:nvGrpSpPr>
        <p:grpSpPr>
          <a:xfrm>
            <a:off x="6659640" y="981000"/>
            <a:ext cx="2089080" cy="647640"/>
            <a:chOff x="6659640" y="981000"/>
            <a:chExt cx="2089080" cy="647640"/>
          </a:xfrm>
        </p:grpSpPr>
        <p:sp>
          <p:nvSpPr>
            <p:cNvPr id="62" name="AutoShape 7"/>
            <p:cNvSpPr/>
            <p:nvPr/>
          </p:nvSpPr>
          <p:spPr>
            <a:xfrm>
              <a:off x="6659640" y="981000"/>
              <a:ext cx="2089080" cy="647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6659640" y="1125000"/>
              <a:ext cx="202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2. RESPI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19 Grupo" descr=""/>
          <p:cNvPicPr/>
          <p:nvPr/>
        </p:nvPicPr>
        <p:blipFill>
          <a:blip r:embed="rId5"/>
          <a:stretch/>
        </p:blipFill>
        <p:spPr>
          <a:xfrm>
            <a:off x="6638760" y="2255760"/>
            <a:ext cx="231624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22 Grupo" descr=""/>
          <p:cNvPicPr/>
          <p:nvPr/>
        </p:nvPicPr>
        <p:blipFill>
          <a:blip r:embed="rId6"/>
          <a:stretch/>
        </p:blipFill>
        <p:spPr>
          <a:xfrm>
            <a:off x="6705720" y="3693960"/>
            <a:ext cx="199368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2"/>
          <p:cNvSpPr/>
          <p:nvPr/>
        </p:nvSpPr>
        <p:spPr>
          <a:xfrm>
            <a:off x="6948360" y="5300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proces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51 Grupo"/>
          <p:cNvGrpSpPr/>
          <p:nvPr/>
        </p:nvGrpSpPr>
        <p:grpSpPr>
          <a:xfrm>
            <a:off x="179280" y="1989000"/>
            <a:ext cx="2448000" cy="4032360"/>
            <a:chOff x="179280" y="1989000"/>
            <a:chExt cx="2448000" cy="4032360"/>
          </a:xfrm>
        </p:grpSpPr>
        <p:sp>
          <p:nvSpPr>
            <p:cNvPr id="68" name="35 Conector recto"/>
            <p:cNvSpPr/>
            <p:nvPr/>
          </p:nvSpPr>
          <p:spPr>
            <a:xfrm>
              <a:off x="179280" y="2421000"/>
              <a:ext cx="0" cy="360036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36 Conector recto"/>
            <p:cNvSpPr/>
            <p:nvPr/>
          </p:nvSpPr>
          <p:spPr>
            <a:xfrm>
              <a:off x="179280" y="6021360"/>
              <a:ext cx="2304000" cy="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38 Conector recto"/>
            <p:cNvSpPr/>
            <p:nvPr/>
          </p:nvSpPr>
          <p:spPr>
            <a:xfrm>
              <a:off x="2483280" y="2421000"/>
              <a:ext cx="0" cy="360036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43 Conector recto"/>
            <p:cNvSpPr/>
            <p:nvPr/>
          </p:nvSpPr>
          <p:spPr>
            <a:xfrm flipV="1">
              <a:off x="179280" y="1989000"/>
              <a:ext cx="432000" cy="4320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45 Conector recto"/>
            <p:cNvSpPr/>
            <p:nvPr/>
          </p:nvSpPr>
          <p:spPr>
            <a:xfrm flipV="1">
              <a:off x="2483280" y="2061000"/>
              <a:ext cx="144000" cy="3600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74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4"/>
            <p:cNvSpPr/>
            <p:nvPr/>
          </p:nvSpPr>
          <p:spPr>
            <a:xfrm>
              <a:off x="984240" y="90360"/>
              <a:ext cx="7908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7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8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 Box 7"/>
          <p:cNvSpPr/>
          <p:nvPr/>
        </p:nvSpPr>
        <p:spPr>
          <a:xfrm>
            <a:off x="971640" y="146196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 absorben, del suelo, agua con sales minerales disue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absorción se hace a través de unas células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xtremo de la raíz, llamada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elos radic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zcla de agua y sales minerales, una vez absorbida, recibe el nombre de </a:t>
            </a:r>
            <a:r>
              <a:rPr b="0" lang="es-ES" sz="2000" spc="-1" strike="noStrike">
                <a:solidFill>
                  <a:srgbClr val="008700"/>
                </a:solidFill>
                <a:latin typeface="Arial"/>
              </a:rPr>
              <a:t>savia bru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1a. Absorción de agua y sal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1547640" y="3745080"/>
            <a:ext cx="5904000" cy="2322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2771640" y="443700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gua y sales miner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39640" y="400536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adic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651640" y="46530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avia bru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reeform 15"/>
          <p:cNvSpPr/>
          <p:nvPr/>
        </p:nvSpPr>
        <p:spPr>
          <a:xfrm>
            <a:off x="1440000" y="4500720"/>
            <a:ext cx="1001520" cy="58392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783" h="1623">
                <a:moveTo>
                  <a:pt x="0" y="0"/>
                </a:moveTo>
                <a:lnTo>
                  <a:pt x="2782" y="1622"/>
                </a:lnTo>
              </a:path>
            </a:pathLst>
          </a:custGeom>
          <a:noFill/>
          <a:ln w="9360">
            <a:solidFill>
              <a:srgbClr val="c5000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Freeform 16"/>
          <p:cNvSpPr/>
          <p:nvPr/>
        </p:nvSpPr>
        <p:spPr>
          <a:xfrm>
            <a:off x="1440000" y="4500720"/>
            <a:ext cx="882360" cy="318960"/>
          </a:xfrm>
          <a:custGeom>
            <a:avLst/>
            <a:gdLst>
              <a:gd name="textAreaLeft" fmla="*/ 0 w 882360"/>
              <a:gd name="textAreaRight" fmla="*/ 882720 w 8823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52" h="887">
                <a:moveTo>
                  <a:pt x="0" y="0"/>
                </a:moveTo>
                <a:lnTo>
                  <a:pt x="2451" y="886"/>
                </a:lnTo>
              </a:path>
            </a:pathLst>
          </a:custGeom>
          <a:noFill/>
          <a:ln w="9360">
            <a:solidFill>
              <a:srgbClr val="c5000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Freeform 17"/>
          <p:cNvSpPr/>
          <p:nvPr/>
        </p:nvSpPr>
        <p:spPr>
          <a:xfrm>
            <a:off x="4708440" y="4343400"/>
            <a:ext cx="981000" cy="450720"/>
          </a:xfrm>
          <a:custGeom>
            <a:avLst/>
            <a:gdLst>
              <a:gd name="textAreaLeft" fmla="*/ 0 w 981000"/>
              <a:gd name="textAreaRight" fmla="*/ 981360 w 981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2726" h="1253">
                <a:moveTo>
                  <a:pt x="2725" y="125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c5000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077080" cy="39340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9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5"/>
            <p:cNvSpPr/>
            <p:nvPr/>
          </p:nvSpPr>
          <p:spPr>
            <a:xfrm>
              <a:off x="984240" y="90360"/>
              <a:ext cx="7331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7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 Box 8"/>
          <p:cNvSpPr/>
          <p:nvPr/>
        </p:nvSpPr>
        <p:spPr>
          <a:xfrm>
            <a:off x="971640" y="146196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dióxido de carbono, principalmente, entra en la plant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unos minúsculos poros, los estomas, que hay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la cara inferior de la ho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971640" y="90792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1b. Absorción de dióxido de carbono o CO</a:t>
            </a:r>
            <a:r>
              <a:rPr b="1" lang="es-ES" sz="2400" spc="-1" strike="noStrike" baseline="-25000">
                <a:solidFill>
                  <a:srgbClr val="0087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56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716360" y="44910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ción del estoma en la ho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4176720" cy="36367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Text Box 4"/>
            <p:cNvSpPr/>
            <p:nvPr/>
          </p:nvSpPr>
          <p:spPr>
            <a:xfrm>
              <a:off x="984240" y="90360"/>
              <a:ext cx="7331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7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7"/>
          <p:cNvSpPr/>
          <p:nvPr/>
        </p:nvSpPr>
        <p:spPr>
          <a:xfrm>
            <a:off x="684360" y="1052640"/>
            <a:ext cx="8064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 lugar en los cloroplastos, que se hallan en las partes verdes de las planta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gua y el dióxido de carbono absorbidos llegan a los cloroplastos y fabrican, gracias a la luz solar, hidratos de carbono, que mezclados con agua en la hoja dan lugar a la </a:t>
            </a:r>
            <a:r>
              <a:rPr b="0" lang="es-ES" sz="2000" spc="-1" strike="noStrike">
                <a:solidFill>
                  <a:srgbClr val="008700"/>
                </a:solidFill>
                <a:latin typeface="Arial"/>
              </a:rPr>
              <a:t>savia elabor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87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, se produce oxígeno como desech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00000" y="620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1c. Fotosínt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835280" y="40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050920" y="5445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oropla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3276720" y="4221000"/>
            <a:ext cx="1268280" cy="51120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524" h="1421">
                <a:moveTo>
                  <a:pt x="0" y="0"/>
                </a:moveTo>
                <a:lnTo>
                  <a:pt x="3523" y="14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13"/>
          <p:cNvSpPr/>
          <p:nvPr/>
        </p:nvSpPr>
        <p:spPr>
          <a:xfrm>
            <a:off x="3348000" y="5589720"/>
            <a:ext cx="1716120" cy="2520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4768" h="72">
                <a:moveTo>
                  <a:pt x="0" y="71"/>
                </a:moveTo>
                <a:lnTo>
                  <a:pt x="47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559640" y="4076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via bru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7308720" y="537372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ua e hidratos de carbon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via elaborad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564000" y="5950080"/>
            <a:ext cx="122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6084720" y="6021360"/>
            <a:ext cx="158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0"/>
          <p:cNvSpPr/>
          <p:nvPr/>
        </p:nvSpPr>
        <p:spPr>
          <a:xfrm flipH="1">
            <a:off x="6875280" y="4292640"/>
            <a:ext cx="66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1"/>
          <p:cNvSpPr/>
          <p:nvPr/>
        </p:nvSpPr>
        <p:spPr>
          <a:xfrm flipH="1" flipV="1">
            <a:off x="6804000" y="501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24000" y="55166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79280" y="6021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9 Imagen" descr="mitocondria_baja.tif"/>
          <p:cNvPicPr/>
          <p:nvPr/>
        </p:nvPicPr>
        <p:blipFill>
          <a:blip r:embed="rId1"/>
          <a:stretch/>
        </p:blipFill>
        <p:spPr>
          <a:xfrm>
            <a:off x="2771640" y="3716280"/>
            <a:ext cx="4303800" cy="27194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4"/>
            <p:cNvSpPr/>
            <p:nvPr/>
          </p:nvSpPr>
          <p:spPr>
            <a:xfrm>
              <a:off x="984240" y="90360"/>
              <a:ext cx="783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2. 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9640" y="1413000"/>
            <a:ext cx="838836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 respiran continuamente. Este proceso lo realiz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itocond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a planta obtiene oxígeno por los estomas y por los pelo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a raí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ste oxígeno llega a las mitocondrias donde junto con los hidratos de carbono se obtiene energ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e libera agua y 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Genev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reeform 12"/>
          <p:cNvSpPr/>
          <p:nvPr/>
        </p:nvSpPr>
        <p:spPr>
          <a:xfrm flipV="1">
            <a:off x="1979640" y="4221000"/>
            <a:ext cx="1368360" cy="5032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0070c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042920" y="3860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Oxíg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1835280" y="4797360"/>
            <a:ext cx="1592280" cy="42408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2232025" h="784225">
                <a:moveTo>
                  <a:pt x="0" y="784225"/>
                </a:moveTo>
                <a:lnTo>
                  <a:pt x="0" y="441127"/>
                </a:lnTo>
                <a:cubicBezTo>
                  <a:pt x="0" y="251639"/>
                  <a:pt x="153610" y="98029"/>
                  <a:pt x="343098" y="98029"/>
                </a:cubicBezTo>
                <a:cubicBezTo>
                  <a:pt x="343098" y="98029"/>
                  <a:pt x="343098" y="98029"/>
                  <a:pt x="343098" y="98029"/>
                </a:cubicBezTo>
                <a:lnTo>
                  <a:pt x="2035969" y="98028"/>
                </a:lnTo>
                <a:lnTo>
                  <a:pt x="2035969" y="0"/>
                </a:lnTo>
                <a:lnTo>
                  <a:pt x="2232025" y="196056"/>
                </a:lnTo>
                <a:lnTo>
                  <a:pt x="2035969" y="392113"/>
                </a:lnTo>
                <a:lnTo>
                  <a:pt x="2035969" y="294084"/>
                </a:lnTo>
                <a:lnTo>
                  <a:pt x="343098" y="294084"/>
                </a:lnTo>
                <a:lnTo>
                  <a:pt x="343097" y="294084"/>
                </a:lnTo>
                <a:cubicBezTo>
                  <a:pt x="261888" y="294084"/>
                  <a:pt x="196056" y="359916"/>
                  <a:pt x="196056" y="441125"/>
                </a:cubicBezTo>
                <a:lnTo>
                  <a:pt x="196056" y="784225"/>
                </a:lnTo>
                <a:lnTo>
                  <a:pt x="0" y="784225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971640" y="5229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idratos 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e carbo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3924720" y="47242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Freeform 10"/>
          <p:cNvSpPr/>
          <p:nvPr/>
        </p:nvSpPr>
        <p:spPr>
          <a:xfrm>
            <a:off x="5724360" y="4508640"/>
            <a:ext cx="1295640" cy="4316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ffc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7020000" y="4005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Dióxido </a:t>
            </a:r>
            <a:br>
              <a:rPr sz="2000"/>
            </a:b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de carbo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reeform 13"/>
          <p:cNvSpPr/>
          <p:nvPr/>
        </p:nvSpPr>
        <p:spPr>
          <a:xfrm flipV="1">
            <a:off x="6012000" y="5299920"/>
            <a:ext cx="1296720" cy="360360"/>
          </a:xfrm>
          <a:custGeom>
            <a:avLst/>
            <a:gdLst>
              <a:gd name="textAreaLeft" fmla="*/ 0 w 1296720"/>
              <a:gd name="textAreaRight" fmla="*/ 1297080 w 129672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w="2232025" h="720725">
                <a:moveTo>
                  <a:pt x="0" y="720725"/>
                </a:moveTo>
                <a:lnTo>
                  <a:pt x="0" y="405408"/>
                </a:lnTo>
                <a:cubicBezTo>
                  <a:pt x="0" y="231263"/>
                  <a:pt x="141172" y="90091"/>
                  <a:pt x="315317" y="90091"/>
                </a:cubicBezTo>
                <a:cubicBezTo>
                  <a:pt x="315317" y="90091"/>
                  <a:pt x="315317" y="90091"/>
                  <a:pt x="315317" y="90091"/>
                </a:cubicBezTo>
                <a:lnTo>
                  <a:pt x="2051844" y="90091"/>
                </a:lnTo>
                <a:lnTo>
                  <a:pt x="2051844" y="0"/>
                </a:lnTo>
                <a:lnTo>
                  <a:pt x="2232025" y="180181"/>
                </a:lnTo>
                <a:lnTo>
                  <a:pt x="2051844" y="360363"/>
                </a:lnTo>
                <a:lnTo>
                  <a:pt x="2051844" y="270272"/>
                </a:lnTo>
                <a:lnTo>
                  <a:pt x="315317" y="270272"/>
                </a:lnTo>
                <a:lnTo>
                  <a:pt x="315316" y="270272"/>
                </a:lnTo>
                <a:cubicBezTo>
                  <a:pt x="240683" y="270272"/>
                  <a:pt x="180181" y="330774"/>
                  <a:pt x="180181" y="405407"/>
                </a:cubicBezTo>
                <a:lnTo>
                  <a:pt x="180181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7451640" y="5300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b0f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4"/>
            <p:cNvSpPr/>
            <p:nvPr/>
          </p:nvSpPr>
          <p:spPr>
            <a:xfrm>
              <a:off x="984240" y="90360"/>
              <a:ext cx="783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3. Distribución de las sust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11280" y="1413000"/>
            <a:ext cx="3960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sustancias se distribuyen por las plantas a travé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vasos conductor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son tubos que recorren 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tallos, las ramas y los nervios de las ho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vasos llevan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savia brut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de las raíce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as partes ver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vasos llevan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savia elabor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todas las parte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lan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2651400" cy="4000320"/>
          </a:xfrm>
          <a:prstGeom prst="rect">
            <a:avLst/>
          </a:prstGeom>
          <a:ln w="0">
            <a:noFill/>
          </a:ln>
        </p:spPr>
      </p:pic>
      <p:sp>
        <p:nvSpPr>
          <p:cNvPr id="153" name="22 CuadroTexto"/>
          <p:cNvSpPr/>
          <p:nvPr/>
        </p:nvSpPr>
        <p:spPr>
          <a:xfrm>
            <a:off x="6875640" y="162864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Savia b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23 CuadroTexto"/>
          <p:cNvSpPr/>
          <p:nvPr/>
        </p:nvSpPr>
        <p:spPr>
          <a:xfrm>
            <a:off x="6948360" y="2421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8000"/>
                </a:solidFill>
                <a:latin typeface="Arial"/>
              </a:rPr>
              <a:t>Savia elabor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25 Conector recto de flecha"/>
          <p:cNvCxnSpPr>
            <a:stCxn id="153" idx="1"/>
          </p:cNvCxnSpPr>
          <p:nvPr/>
        </p:nvCxnSpPr>
        <p:spPr>
          <a:xfrm flipH="1">
            <a:off x="5795280" y="1797480"/>
            <a:ext cx="108036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27 Conector recto de flecha"/>
          <p:cNvCxnSpPr>
            <a:stCxn id="154" idx="1"/>
          </p:cNvCxnSpPr>
          <p:nvPr/>
        </p:nvCxnSpPr>
        <p:spPr>
          <a:xfrm flipH="1">
            <a:off x="6227280" y="2589840"/>
            <a:ext cx="721440" cy="26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984240" y="90360"/>
              <a:ext cx="783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4. Expulsión de los des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11280" y="1413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 pueden expulsar sus desechos de varias 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14 Imagen" descr="desechosplantas.jpg"/>
          <p:cNvPicPr/>
          <p:nvPr/>
        </p:nvPicPr>
        <p:blipFill>
          <a:blip r:embed="rId2"/>
          <a:stretch/>
        </p:blipFill>
        <p:spPr>
          <a:xfrm>
            <a:off x="4427640" y="1989000"/>
            <a:ext cx="4278240" cy="3684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11280" y="1989000"/>
            <a:ext cx="38894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os estomas, expuls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oxígeno de la fotosíntesi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el dióxido de carbon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spiración, así com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xceso de agua (vap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acenan desechos en células de hojas viejas que acaban perdien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ueden perder sustancias como el látex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la resina por cortes o heri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16 CuadroTexto"/>
          <p:cNvSpPr/>
          <p:nvPr/>
        </p:nvSpPr>
        <p:spPr>
          <a:xfrm>
            <a:off x="6804000" y="378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Times New Roman"/>
              </a:rPr>
              <a:t>Oxíg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17 CuadroTexto"/>
          <p:cNvSpPr/>
          <p:nvPr/>
        </p:nvSpPr>
        <p:spPr>
          <a:xfrm>
            <a:off x="7596360" y="342900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Times New Roman"/>
              </a:rPr>
              <a:t>Dióxido </a:t>
            </a:r>
            <a:br>
              <a:rPr sz="1600"/>
            </a:br>
            <a:r>
              <a:rPr b="0" lang="es-ES" sz="1600" spc="-1" strike="noStrike">
                <a:solidFill>
                  <a:srgbClr val="c00000"/>
                </a:solidFill>
                <a:latin typeface="Times New Roman"/>
              </a:rPr>
              <a:t>de carb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18 CuadroTexto"/>
          <p:cNvSpPr/>
          <p:nvPr/>
        </p:nvSpPr>
        <p:spPr>
          <a:xfrm>
            <a:off x="7236000" y="213372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2" name="20 Conector recto de flecha"/>
          <p:cNvCxnSpPr/>
          <p:nvPr/>
        </p:nvCxnSpPr>
        <p:spPr>
          <a:xfrm flipH="1">
            <a:off x="6947640" y="2420640"/>
            <a:ext cx="36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</a:ln>
        </p:spPr>
      </p:cxnSp>
      <p:cxnSp>
        <p:nvCxnSpPr>
          <p:cNvPr id="173" name="36 Conector recto de flecha"/>
          <p:cNvCxnSpPr/>
          <p:nvPr/>
        </p:nvCxnSpPr>
        <p:spPr>
          <a:xfrm>
            <a:off x="7236000" y="3141720"/>
            <a:ext cx="57636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74" name="37 CuadroTexto"/>
          <p:cNvSpPr/>
          <p:nvPr/>
        </p:nvSpPr>
        <p:spPr>
          <a:xfrm>
            <a:off x="7812000" y="2997360"/>
            <a:ext cx="9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Times New Roman"/>
              </a:rPr>
              <a:t>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38 CuadroTexto"/>
          <p:cNvSpPr/>
          <p:nvPr/>
        </p:nvSpPr>
        <p:spPr>
          <a:xfrm>
            <a:off x="637236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jas viej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39 CuadroTexto"/>
          <p:cNvSpPr/>
          <p:nvPr/>
        </p:nvSpPr>
        <p:spPr>
          <a:xfrm>
            <a:off x="5148360" y="5805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ri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41 Conector recto de flecha"/>
          <p:cNvCxnSpPr/>
          <p:nvPr/>
        </p:nvCxnSpPr>
        <p:spPr>
          <a:xfrm flipH="1" flipV="1">
            <a:off x="5147640" y="4581000"/>
            <a:ext cx="361080" cy="1224720"/>
          </a:xfrm>
          <a:prstGeom prst="straightConnector1">
            <a:avLst/>
          </a:prstGeom>
          <a:ln w="28440">
            <a:solidFill>
              <a:srgbClr val="92d050"/>
            </a:solidFill>
            <a:miter/>
          </a:ln>
        </p:spPr>
      </p:cxnSp>
      <p:cxnSp>
        <p:nvCxnSpPr>
          <p:cNvPr id="178" name="43 Conector recto de flecha"/>
          <p:cNvCxnSpPr/>
          <p:nvPr/>
        </p:nvCxnSpPr>
        <p:spPr>
          <a:xfrm flipH="1" flipV="1">
            <a:off x="5795640" y="4581000"/>
            <a:ext cx="792720" cy="1224720"/>
          </a:xfrm>
          <a:prstGeom prst="straightConnector1">
            <a:avLst/>
          </a:prstGeom>
          <a:ln w="28440">
            <a:solidFill>
              <a:srgbClr val="92d050"/>
            </a:solidFill>
            <a:miter/>
          </a:ln>
        </p:spPr>
      </p:cxnSp>
      <p:sp>
        <p:nvSpPr>
          <p:cNvPr id="179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9:52Z</dcterms:modified>
  <cp:revision>52</cp:revision>
  <dc:subject/>
  <dc:title>Presentación de PowerPoint</dc:title>
</cp:coreProperties>
</file>